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919-3C4A-4331-889A-38C4FB9D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473-773B-45D3-89F8-3A10267B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5F9-27CF-4CEC-900F-1E4C943C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354-5F45-41C7-AC88-D28B612B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709-CFFD-4469-B4C6-64AAC2FE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D61-7DE3-472D-8AD9-D500ECFC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4E6-9FEC-42EA-8DB6-5CC36EA6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E61-D756-45F1-86D0-55E50E6F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FF9-D062-4135-AA78-E3F43F72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8C2-761A-477D-8012-AF9A37BE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A66-73BF-4169-8DD0-1A81D588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265-E2A4-46F7-BC75-B93080C2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16C9-962C-4BDA-9432-FF672D2FC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Dog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By: Heath Davidson</a:t>
            </a:r>
            <a:endParaRPr b="0" lang="en-US" sz="40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I’ve concluded that  walking your dog will help with their obedience to you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450000">
            <a:off x="228240" y="1523520"/>
            <a:ext cx="3238560" cy="381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071200">
            <a:off x="4724280" y="68580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o dogs have bad obedience when not walked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I predict that my dog will be way more hyper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Gather all my materials 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Test 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Calculate results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Make a conclusion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Pen or Pencil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Independent: Walking and not walking him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ependent:Reactions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Controlled:Dog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Observations 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My dog did act a lot better. He wasn’t as hyper when I had walked him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When I didn’t walk him he wasn’t as compliant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He also did things he knew wrong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My dog was tired and worn out after a run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When I didn’t run him he was more energetic and less helpful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9:16Z</dcterms:created>
  <dc:creator>USD376</dc:creator>
  <dc:description/>
  <dc:language>en-US</dc:language>
  <cp:lastModifiedBy>USD376</cp:lastModifiedBy>
  <dcterms:modified xsi:type="dcterms:W3CDTF">2010-05-10T14:34:47Z</dcterms:modified>
  <cp:revision>12</cp:revision>
  <dc:subject/>
  <dc:title>Dogs</dc:title>
</cp:coreProperties>
</file>